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C72-9ECF-4128-B7C8-FB2AEBA2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777-9690-4ABF-81BA-C1A6C23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924-57E0-4F86-B01E-71A308BF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EC3-D2E8-4034-AED9-E9856BB4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922-8816-41B4-BEF5-3ACE4C1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BB2-0711-4C89-A366-7807DA18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A22-897C-4FAD-AD65-5BA0CE1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2A7-E103-40B4-9B3B-A4A3924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7B0-3047-4F5D-9003-E95C4EF9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3D-A36A-4EAF-A06D-2D28F60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658-568B-44CA-A1B2-B1D48982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AD0-6C40-4EF7-92B1-EA12182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9BCD-61A7-4553-84B1-60008DAD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35:01Z</dcterms:created>
  <dc:creator>Grupo Editorial</dc:creator>
  <dc:description/>
  <dc:language>en-US</dc:language>
  <cp:lastModifiedBy>Grupo Editorial</cp:lastModifiedBy>
  <dcterms:modified xsi:type="dcterms:W3CDTF">2001-11-15T17:36:47Z</dcterms:modified>
  <cp:revision>1</cp:revision>
  <dc:subject/>
  <dc:title>Sin título de diapositiva</dc:title>
</cp:coreProperties>
</file>